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35E-81FB-4652-A85A-675628C4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19E-1864-409C-BE16-B808F7B5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165-18F8-4151-AF13-0FCAE789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805-0C73-43A2-A93D-86FC9DA8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DEFE-0824-4125-A582-01C4B8D0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834F-FD82-447D-B929-6A11F4A6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B88F-F306-4B43-B24E-ABDB5F33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B508-EB3F-4A06-83E0-6197F439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4B7B-533F-4CBE-8675-5B9CDA74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7FC2-3A51-4BC8-AECC-22DBD890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A423-A11D-43E2-B35E-BC2A1D35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B6E-FB5D-4615-A2C2-D58DBD62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B2AD-6EF2-4849-9B93-1E845198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F3AA-F55A-493A-8AD7-39013945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A103-C526-4842-94A2-3B1413CF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2047-1CE9-4E08-AD21-E2CB8787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CBA5-BFD3-47B7-BAB4-C72F16F0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2A1DC-9987-44DD-B77A-D16ECDDA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CF68-ACD6-4C39-A504-BA37F500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FCE9-401B-451C-8B12-C1168CA0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DF56-7DB7-4067-BD76-0D22A3EF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88225-1B8E-4BC8-9409-ACEABA31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4C8-ECCB-44D6-9EBB-29D75201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BEE54-EEED-4B2C-BF72-A4D277AB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034D-1E8D-4174-B3C8-6B69F57B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AE21A-8231-479F-BED2-CE17680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1BAC-455B-4407-B823-C50EE8F9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E6A4-FE97-4680-82D2-3B466603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4E7C-14A9-4648-838C-20A405B7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6C83-AFEC-4CED-94E9-5167B7FF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7B1-2764-49BC-8943-EB8A3BFD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1CB-D35A-4ED4-A88D-E6C803CD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1DB-D864-40EE-9BA0-2FC77869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847-81DD-4983-AD4E-A33DE095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803-4CBC-4E66-AE19-48939C48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2EF-9F38-4741-8D2F-F527FAE5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957E-EBFB-435E-8E59-781E32E9EA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0AA7-C7D2-4FFA-A359-586725E46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3"/>
          <a:srcRect l="6790" t="0" r="21202" b="0"/>
          <a:stretch/>
        </p:blipFill>
        <p:spPr>
          <a:xfrm>
            <a:off x="0" y="4683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2000-9F63-4094-BFCE-E51D717E5496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3009-49C8-4681-B35A-3FB4745DE16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85" name="Rounded Rectangle 7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CB75-D096-4C59-8F92-2CD378A0DE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1745-C6D7-4B55-B5AA-410698CC7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6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4eca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36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40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4ec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64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14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71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3065"/>
              </a:gs>
              <a:gs pos="100000">
                <a:srgbClr val="f14d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2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3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4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5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6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7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8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9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0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42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9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98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5b200"/>
              </a:gs>
              <a:gs pos="100000">
                <a:srgbClr val="9bd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2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7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8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9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40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55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229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9405"/>
              </a:gs>
              <a:gs pos="100000">
                <a:srgbClr val="fea0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3:2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